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7BC-94D9-4EBF-A54F-232D96C5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DAEF-2623-4201-8A7F-342408EC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34F-5724-4DE7-96ED-A976063E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53F-9E02-4223-90FE-89B32CBC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73D-0B47-4741-9C69-CD1D7977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9EF-4333-46DF-8DFF-5E2035E7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CA5-D716-44AB-BB06-25001A80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4EB0-3409-463A-94BA-CB76D5E5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7CB3-F2A0-4282-9C3C-827E4A36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BD2-B644-4B3E-86E8-28023535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DF9B-73DC-420B-9852-29F30ADC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D79-D6CC-419C-A602-80DCFBA7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FAA6-4EF9-4D5D-8A81-3EE0D6A17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2505"/>
                </a:solidFill>
                <a:latin typeface="Arial"/>
              </a:rPr>
              <a:t>The Heimlich Maneu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5334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2505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o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den Cal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52505"/>
                </a:solidFill>
                <a:latin typeface="Arial"/>
              </a:rPr>
              <a:t>!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’s never a warning before a person gets an object caught in their throat and starts choking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ely, there are effective techniques to deal with this emergen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2505"/>
                </a:solidFill>
                <a:latin typeface="Arial"/>
              </a:rPr>
              <a:t>Cho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king is the body’s way of trying to remove a foreign object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s of Cho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ting (especially eating and laughing at the same time, eating too fast, and failing to chew food well enough.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ohol and drug consumption (even a small amount affects awareness.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uma to the head and face (bleeding can cause choking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bjects swallowed by children (beads, toy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2505"/>
                </a:solidFill>
                <a:latin typeface="Arial"/>
              </a:rPr>
              <a:t>Lack of 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oxygen the brain can begin to die within 4 to 6 minute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learning the Heimlich Maneuver-a simple life-saving technique-you may literally save the life of a choking victim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mlich Maneuv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imlich Maneuver is the most effective way to remove something stuck in an adult’s or older child’s throat. (Note: another technique is used for an infant, small child, or when someone becomes unconscious.)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lifts the diaphragm and forces enough air from the lungs to remove the obstr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2505"/>
                </a:solidFill>
                <a:latin typeface="Arial"/>
              </a:rPr>
              <a:t>When Do I Use The Heimli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is grabbing the throat with the hand (the universal sign for choking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otice they are gagg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ear a weak ineffective cough, noisy breathing, or high-pitched soun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is starting to look blu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2505"/>
                </a:solidFill>
                <a:latin typeface="Arial"/>
              </a:rPr>
              <a:t>How To Do The Heiml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behind the choking person and wrap your arm around his or her wai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humb side of the fist against middle of person’s abdomen just above the navel and well below the rib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 your fist into the person’s abdomen with quick, upward thru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abdominal thrusts until the object is coughed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2505"/>
                </a:solidFill>
                <a:latin typeface="Arial"/>
              </a:rPr>
              <a:t>Performing The Heiml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2505"/>
                </a:solidFill>
                <a:latin typeface="Arial"/>
              </a:rPr>
              <a:t>Always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the expulsion of the object, keep the victim still and get medical hel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ions can arise from the incident or from the measures that were tak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2505"/>
                </a:solidFill>
                <a:latin typeface="Arial"/>
              </a:rPr>
              <a:t>Important No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nformation is not intended to be a substitute for professional medical advi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censed physician should be consulted for diagnosis and treatment of all medical condi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8:13Z</dcterms:created>
  <dc:creator>771009</dc:creator>
  <dc:description/>
  <dc:language>en-US</dc:language>
  <cp:lastModifiedBy>771009</cp:lastModifiedBy>
  <dcterms:modified xsi:type="dcterms:W3CDTF">2008-10-27T16:07:41Z</dcterms:modified>
  <cp:revision>4</cp:revision>
  <dc:subject/>
  <dc:title>The Heimlich Maneuver</dc:title>
</cp:coreProperties>
</file>